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622C-336B-4318-91B4-B1286C60F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98CB-B302-4984-AE2B-C3FA817F8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E81A-858A-4D08-B006-B94BCCF8F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8BC5-05EC-4D02-9FD6-E2D93B3C84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44D6-8868-4DE6-8E09-673466E59A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8E0F-A839-4CDD-BCF5-A9A07CE2E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AA59-EA31-416C-8C71-B930CC4AE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CBAF-7225-4F17-BC24-6000476A8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E521-6A5E-4330-B8E7-A3E00766E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EBF4-88E5-4659-93F7-4C219A286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8D38-D2BA-4EAB-8B53-6F6CF524D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2D99-D6ED-4889-BCCA-715DBB529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B0CD-93CE-4F15-94AA-E90BBA8DB2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823-4D70-4AA5-A785-44BB689A68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students identify as evidence of a good answ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4B1-D0B6-4EF9-AC34-53F2B563A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980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uccess criteria the students co-constructe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8B37-332A-44EA-86D8-41F6C3EDA7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 once they have completed th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8F2D-AE90-4A93-A1E9-88D824D2FC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733920" y="3809880"/>
            <a:ext cx="4724280" cy="2133720"/>
          </a:xfrm>
          <a:prstGeom prst="cloudCallout">
            <a:avLst>
              <a:gd name="adj1" fmla="val -88912"/>
              <a:gd name="adj2" fmla="val -38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you change about your success criteria now that you have solved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Video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the students alter their success criteria they co-constructed before they did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2C7D-8E22-4074-B71F-BCB6575543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/contrast your predictions with the student’s revised success criteri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A2C-C427-4293-9FDF-06A5786BEC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b5ca9"/>
                </a:solidFill>
                <a:latin typeface="Arial"/>
              </a:rPr>
              <a:t>Video…the math!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EF23-7B7B-4F7E-A83B-876A4E7412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040" y="25142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in the mo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responding over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CF22-CE88-450A-90C4-AA68A76826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E02-6D18-4824-AFF6-1CB8CD0D8E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 of feedback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 one student sample and team up with another pai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your samples and the feedback you would provi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002-96E8-4491-B9BF-FECDBC5D8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4920" y="228564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CB5-9054-4B3E-9E0E-1DFFA5094B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…Responding to Students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E4CC-2314-41DA-A396-5B553037B9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3352680" y="2633760"/>
            <a:ext cx="296892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more math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2640" y="1828440"/>
            <a:ext cx="670572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is closer to a 1/2? 3/8 or 4/10? 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D2AB-7D8E-4EEC-91D0-C22FDFB345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AutoShape 7"/>
          <p:cNvSpPr/>
          <p:nvPr/>
        </p:nvSpPr>
        <p:spPr>
          <a:xfrm>
            <a:off x="3505320" y="3429000"/>
            <a:ext cx="4495680" cy="2209680"/>
          </a:xfrm>
          <a:prstGeom prst="cloudCallout">
            <a:avLst>
              <a:gd name="adj1" fmla="val -87643"/>
              <a:gd name="adj2" fmla="val -28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ve the problem in at least two ways, noting possible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your responses with a partner and provide feedback to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040" y="18288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 fill out the exit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0728-63C3-49EA-806B-5716768C6F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e the statements in a way that make sense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 your reas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477-D968-41BA-905C-1F447ECBD8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orting Activity: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necting Mathematical Processes with the Achievement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BA7F-5B48-4041-B395-E33DE7A056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4187880" cy="34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Open Sort…continued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sorting template altered the organization of your statements in any way? Expla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BF4-A720-43EC-BD5A-BE7249E0E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okie Recip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E61F-9CD1-4C41-A349-499695FB82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4827-7BDE-4C43-9351-B349CF3D02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Cooki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5A1E-89F8-4FCA-8C4C-1DF00B5201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iscuss what you think students would identify as success criteria for the Cookie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495F-0CC7-421C-9F5A-483B04A5E5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36:18Z</dcterms:modified>
  <cp:revision>76</cp:revision>
  <dc:subject/>
  <dc:title>&lt;Title&gt;</dc:title>
</cp:coreProperties>
</file>